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F014-633F-4C6B-A5E1-EF6B81645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21F3-5B4C-490B-B2D3-12AA8533B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BF48-AF1E-49B4-A43C-19F69F689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3B16-CBCB-4B9A-9126-10FC93F64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5D22-7CEB-45BF-9E3B-C8D62790D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28CB-5D53-43CB-95D7-151D2E4DB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17B5-41E3-4735-B253-E1A5C6FB6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BC81-57F5-49AB-87A9-41FFCF1CB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3929-98E2-4521-A640-1FA176D25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0DC5-1D34-499E-B63F-CE344E8B1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D6EA-4FF0-4865-BB93-6119B3988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81C8-6E4F-4573-8A2B-C3353CAD6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B5C-F709-4B16-9FCE-5C0395225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798B-E87F-4D79-97B9-0C2F9221C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C927-B3B4-4121-9822-EEB970B0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B00A-D7C0-4517-90BF-8EA7D491B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3B37-C46C-4A31-9DD0-7EA8172C6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16DB-95C5-4C2F-9991-B879F713B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68C4-34CA-4BF2-A097-36ED53333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64C2-42F1-4FBF-8400-71307F361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16524-F540-497D-AA36-14A864953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F830-3FF8-4672-8459-4871CCE0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264DD-1B5A-45E7-B5AE-837A21F8C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CACBA-0EA0-46EA-9E5C-4B12AB903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B8EC4-F7BB-4341-B11A-2875CD5E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BAF4A-31B9-46F4-B0FC-253CF6BFC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71127-1FF8-412D-A1D0-E74E2BB7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DCF7-0D84-476E-BF81-4690059F2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C890-32B1-47CB-A3CD-0D8E74D2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06E1-9F35-4AAF-9D96-65BC16AE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5C61-6E4E-4205-8AE9-796A8BBB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3E41-5239-48A4-9F5E-4E633DA56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22FE-9B48-4C77-9913-053869F3F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
          <p:cNvGraphicFramePr/>
          <p:nvPr/>
        </p:nvGraphicFramePr>
        <p:xfrm>
          <a:off x="563400" y="3429000"/>
          <a:ext cx="8009280" cy="3043080"/>
        </p:xfrm>
        <a:graphic>
          <a:graphicData uri="http://schemas.openxmlformats.org/presentationml/2006/ole">
            <p:oleObj r:id="rId2" spid="">
              <p:embed/>
              <p:pic>
                <p:nvPicPr>
                  <p:cNvPr id="81" name=""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Rachelle</cp:lastModifiedBy>
  <dcterms:modified xsi:type="dcterms:W3CDTF">2010-03-08T08:10:18Z</dcterms:modified>
  <cp:revision>120</cp:revision>
  <dc:subject/>
  <dc:title>Wikispaces for Teachers A guide to using them in your classroom</dc:title>
</cp:coreProperties>
</file>